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breeze.wav" ContentType="audio/x-wav"/>
  <Override PartName="/ppt/media/image2.jpeg" ContentType="image/jpeg"/>
  <Override PartName="/ppt/media/arrow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3AF-69D7-4C50-91EB-D435FB27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E7D-90E4-4A6D-8BFC-0A8DD7BD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CF6-A217-4B03-A5CD-44F64FFF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87E-9C52-44EF-A77F-EECE270F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D6C-F5CF-47A6-B085-A9DFBB39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4B1-25BF-421F-A981-B6C48D53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BF4-89E3-446C-88BD-540F135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B73-2466-42DE-830F-3812DFA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811-6F0B-45AB-A5AB-A779D01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421-90B5-46DE-832B-943C062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B4A-4979-4CE5-BE92-B697B60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2A1-82E1-45EA-A88F-5DE4F9D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BFD-3C84-40EA-BFF4-BCC983FB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georgia.html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ostcardsfrom.com/t1/000523.html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0292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stan 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990720"/>
            <a:ext cx="5867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0066ff"/>
                    </a:gs>
                    <a:gs pos="100000">
                      <a:srgbClr val="33cccc"/>
                    </a:gs>
                  </a:gsLst>
                  <a:lin ang="5400000"/>
                </a:gradFill>
                <a:latin typeface="Impact"/>
              </a:rPr>
              <a:t>GEORG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0066ff"/>
                  </a:gs>
                  <a:gs pos="100000">
                    <a:srgbClr val="33cc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-At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-8,186,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-Januar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-wisdom,justice,and mo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name-peac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-Cherokee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ird-brown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-Georgia on my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-to honor king George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's newest flag was designed may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ree is live 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Georgia: Map and State Flag"/>
          <p:cNvPicPr/>
          <p:nvPr/>
        </p:nvPicPr>
        <p:blipFill>
          <a:blip r:embed="rId1"/>
          <a:srcRect l="0" t="0" r="0" b="65017"/>
          <a:stretch/>
        </p:blipFill>
        <p:spPr>
          <a:xfrm>
            <a:off x="5638680" y="2514600"/>
            <a:ext cx="259092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Georgia: Map and State Flag"/>
          <p:cNvPicPr/>
          <p:nvPr/>
        </p:nvPicPr>
        <p:blipFill>
          <a:blip r:embed="rId2"/>
          <a:srcRect l="0" t="34782" r="-61519" b="-15921"/>
          <a:stretch/>
        </p:blipFill>
        <p:spPr>
          <a:xfrm>
            <a:off x="2743200" y="3962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4343400"/>
            <a:ext cx="2666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government for kid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georg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4724280"/>
            <a:ext cx="5638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.c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ne mountian,georgia postca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5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3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7:30Z</dcterms:created>
  <dc:creator>install</dc:creator>
  <dc:description/>
  <dc:language>en-US</dc:language>
  <cp:lastModifiedBy>install</cp:lastModifiedBy>
  <dcterms:modified xsi:type="dcterms:W3CDTF">2011-03-16T15:55:34Z</dcterms:modified>
  <cp:revision>7</cp:revision>
  <dc:subject/>
  <dc:title>Slide 1</dc:title>
</cp:coreProperties>
</file>